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D08-FAF9-459E-AA52-1CB25EE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1C5-58A7-494D-A874-9BEDE11C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358-CA29-4604-B63D-2742F0F0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F75-44E0-42A4-A8DF-FA56AF76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EC4-ECFF-4062-9A5A-A7D64B3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619-E622-4694-BC58-276C55A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F87-FF95-4D4A-97C4-7F5A0FB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6E1-BF2D-4735-B359-DA1711B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060-3475-4C82-821B-34B9C08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31B-3C5D-4FAF-9061-2DA3D20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CD6-199A-48E8-A8C5-FA29200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DC9-F769-49E6-AE18-0CCB45D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01D-BCD5-4D7B-BF7E-EFF075C0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se lines represe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tion will cause no change in potential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tion will cause the largest change in potential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733920" cy="27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429000" cy="311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800600"/>
            <a:ext cx="8534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mount of work done to move a proton from the 1V equipotential line to the 2V equipotential lin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it were an electr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lectron-Vo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not a unit of voltage!!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the amount of energy it takes to move one electron through a one volt difference in potential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76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on-volt is a very small unit of energy used for small atomic level energy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8006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57200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1752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581280"/>
            <a:ext cx="312444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495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114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724280"/>
            <a:ext cx="38124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49568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114800"/>
            <a:ext cx="1752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4495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419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3733920"/>
            <a:ext cx="25909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energy does it take to move an electron from level A to B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4:19:54Z</dcterms:created>
  <dc:creator> </dc:creator>
  <dc:description/>
  <dc:language>en-US</dc:language>
  <cp:lastModifiedBy>SOCSD</cp:lastModifiedBy>
  <dcterms:modified xsi:type="dcterms:W3CDTF">2009-02-26T13:19:20Z</dcterms:modified>
  <cp:revision>2</cp:revision>
  <dc:subject/>
  <dc:title>The Electron-Volt</dc:title>
</cp:coreProperties>
</file>